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C207-68BA-4BD4-AA66-5472CBB1AA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(da igual). También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ch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(siguiente diapositi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definir mas de un constante a la vez. Probado varias opciones. Ninguna funci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; no necesario el la ultima linea antes de 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variables no necesitan ni (“   ni “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$b contiene “Hola Mund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puede inicializar los variables en la misma línea como he hecho yo  en la primera línea. Pero no se puede separar por commas. Tiene que ser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llamada con 1 parámetro la función con los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hp_self = variable de entorno/sistema que devuelve el nombre del script que estamos ejecutando. En vez de usar 2 ficheros, formulario.htm y mis_datos.php se puede usar solo un fich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hp_self = variable de entorno/sistema que devuelve el nombre del script que estamos ejecut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5 es parámetro que hace falta pero no se a que se refi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g: Tv station que quiere automatizar su progra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59C-59AC-4BCE-9BEF-6C799149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424-FF08-4D2E-9E75-623C4185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A1B-6A23-4CCF-8613-52F10444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EDC-4681-4675-837B-77BF14AD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FBD-4EB4-4B27-9DC8-C9D41CFB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D40-A029-4E1A-AC61-81527D06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785-8E4D-4113-A2EF-C188181F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3EF-196E-4A86-82BB-987C178D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F78-62EC-4BC7-B96A-CFD7BB50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AAB-3AF4-4796-94B4-6EEB8652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2C2-B9D5-4411-935F-8F888593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051-2D58-443C-94EC-8DB78560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DEA5-30A4-441A-8874-968C112E2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98400"/>
            <a:ext cx="7772400" cy="146988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 a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602136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© 2002  Simon Alderton / Miguel Gavilán / Eduardo Luque / Miguel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pio servidor ejecuta e interpreta las ordenes PHP (scripts) para luego enviar el resultado al cliente (nuestro navegador) en forma legible de código 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Lenguaje del lado de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ráfica del uso de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00000" y="2060640"/>
          <a:ext cx="770436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77043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7240" y="1598760"/>
            <a:ext cx="7772400" cy="146988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y Funciones Básicas de 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PH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09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escribe junto con código 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etiquetas para delimitar su código del código 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sten varias formas de abrir y cerr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08000" y="4076640"/>
          <a:ext cx="4824360" cy="2070000"/>
        </p:xfrm>
        <a:graphic>
          <a:graphicData uri="http://schemas.openxmlformats.org/drawingml/2006/table">
            <a:tbl>
              <a:tblPr/>
              <a:tblGrid>
                <a:gridCol w="2412000"/>
                <a:gridCol w="2412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?ph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instrucción termina con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to las sentencias de control ( if, switch, whil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comentarios de 1 línea con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comentarios de 2+ líneas con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/*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rimir en pantalla con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PHP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PHP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2349360"/>
            <a:ext cx="5759280" cy="20876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e (“constante”, “Hola Mund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(constan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4797360"/>
            <a:ext cx="633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ara definir con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rint(f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mo alternativa al 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PHP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530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finen las variables co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$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1773360"/>
            <a:ext cx="3960720" cy="30258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$var = “Sevilla \n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$v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18920" y="1988640"/>
            <a:ext cx="5761080" cy="23050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$cadena=“5”; // esto es un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$entero=3; // esto es un e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$cadena+$ente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“fi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PHP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724280"/>
            <a:ext cx="78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exibilidad operando con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HP interpreta el tipo de variable necesario   para el funcionamiento corr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HP e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ase sensitiv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(distingue entre mayúsculas y minúsculas) con las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 $var  !=  $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HP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ase sensitiv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 las sentencias del lengu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 echo  =  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PHP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484360" y="3141720"/>
            <a:ext cx="28728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588000" y="4869000"/>
            <a:ext cx="64800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dores Aritm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,  -,  *,  / , %,  ++,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dores de 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&lt;, &gt;, &lt;=, &gt;=, ==, !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D,  &amp;&amp;,  OR, 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PHP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0492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y usar el formato PH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r y modificar documentos HTML con PHP incrustado usando un editor de textos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ribir conjuntos de página Web que presenten información, y que incluyan links a una base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dores de A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$a=$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 a $a el contenido de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$a+=$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 suma $b a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$a-=$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 resta $b a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$a*=$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ltiplica $a por $b y lo asigna a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$a/=$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vide $a por $b y lo asigna a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$a.=$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ñade la cadena $b a la cadena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PHP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dor de Cade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PHP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1773360"/>
            <a:ext cx="2952720" cy="20872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$a =“Hola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$b=$a.”Mundo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= $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342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simples o dobles comill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4221000"/>
            <a:ext cx="6048360" cy="20876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$a =“Mundo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= ‘Hola $a’; // escribirá “Hola $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= “Hola $a”; // escribirá “Hola Mu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ntencias de Control - If...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1916280"/>
            <a:ext cx="5184720" cy="3744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f (cond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..... (si condición es Verdad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..... (si condición es Fal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ntencias de Control  - if...elseif...e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1700280"/>
            <a:ext cx="5435640" cy="4392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 (condición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....... (si condición 1 es Verdad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seif (condición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....... (si condición 2 es Verdad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....... (si condición 2 es Fal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ntencias de Control -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1700280"/>
            <a:ext cx="4464000" cy="47242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witch (vari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e “X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“la letra es X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e “Y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“la letra es Y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“la letra no es ni X ni Y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ntencias de Control - while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989000"/>
            <a:ext cx="4032360" cy="4032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num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hile(condic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”la condición se cumplió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$n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($num=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num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ntencias de Control – do...w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1700280"/>
            <a:ext cx="4321440" cy="4608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num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ho $n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ho"&lt;br&gt;&lt;br&gt;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($num=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eak; // para salir del bu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num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hile(condicion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el ; es op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ntencias de Control –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1773360"/>
            <a:ext cx="4824360" cy="4464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($num=1;$num&lt;=5;$num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$n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"&lt;br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($num=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"Salimos del bucle for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eak; // para salir del b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7240" y="1598760"/>
            <a:ext cx="7772400" cy="146988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Más Avanzadas de 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blas (array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2781360"/>
            <a:ext cx="5759280" cy="2016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iudad[]=“Cordoba”;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iudad[]=“Sevilla”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iudad[]=“Granada”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“Yo no vivo en “. $ciudad[2].”&lt;br&gt;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ción de arrays utilizando índic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2390400"/>
            <a:ext cx="820728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ocer Microsoft Explo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ocer un editor de textos (Ultra Ed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ber escribir documentos 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ner montado un servidor con los archivos necesarios. (PHP+MySql+Apa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r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blas (array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3429000"/>
            <a:ext cx="6048360" cy="2808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iudad[]=array(1=&gt;“Cordoba”,“Sevilla”,“Granada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nelementos=count($ciudda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($i=1;$i&lt;=nelementos;$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nt(“La ciudad $i es $ciudad[$i]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628640"/>
            <a:ext cx="7993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ción de arrays utilizando índices.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ón: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erador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pecifica índice in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blas asociativas (array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2349360"/>
            <a:ext cx="2016000" cy="1368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visitas[0]=2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visitas[1]=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2349360"/>
            <a:ext cx="2952720" cy="1368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visitas[“lunes”]=2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visitas[“martes”]=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508640"/>
            <a:ext cx="575928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visitas = array(“lunes”=&gt;250,“martes”=&gt;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844640"/>
            <a:ext cx="2016000" cy="432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844640"/>
            <a:ext cx="2950920" cy="432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ndo tabla asoci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139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recorrer una tabla asociativa utilizando fun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vuelve el valor del elemento que indica el pun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“”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“”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“”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“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ve el puntero al primer elemento de la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ve el puntero al último elemento de la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ve el puntero al elemento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ev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ve el puntero al elemento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vuelve el número de elementos de la ta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vuelve el valor del elemento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blas asociativas (array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blas asociativas (array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2924280"/>
            <a:ext cx="7344000" cy="25192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visitas=array(“lunes”=&gt;250,“martes”=&gt;100,”miercoles”=&gt;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et($visi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hile(list($clave,$valor)=each($visita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(“el dia $clave tuvo $valor visita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1700280"/>
            <a:ext cx="748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st( ) asigna valores a una lista de variables. Los valores extraí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la tabla por la función each(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ablas multidimensionales (array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2276640"/>
            <a:ext cx="5472000" cy="41050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alendario[]=array(1,enero,3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alendario[]=array(2,febrero,2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alendario[]=array(3,marzo,3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hile(list($clave,$valor)=each($calendario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adena=$valor[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adena.=“ es el mes número “.$valor[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cadena.=“ y tiene “.$valor[2].” dia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$cad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1700280"/>
            <a:ext cx="56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elemento de la tabla es  a su vez otra ta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70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ón de  una función con la palabra: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parar los parámetros con c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ara terminar la función y devolver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hay que devolver &gt;1 valor usa una tab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3284640"/>
            <a:ext cx="5688000" cy="2952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tion mayor($x,$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msg=“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($x&gt;$y) {$msg=$x.” es mayor que ”.$y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$msg=$y.” es mayor que ”.$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turn $ms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6551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defecto los parámetros pasan por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parámetros pasan por referencia co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&amp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637000"/>
            <a:ext cx="5185080" cy="3627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a=1; $b=2; $c=""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c=suma($a,$b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ho "Por valor, la variable a vale: $a"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c=suma(&amp;$a,$b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ho "Por referencia, la variable a vale: $a";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tion suma($x,$y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 $x=$x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urn $x+$y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691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arámetros con valores por defecto pasan a la derecha de los parámetros sin valor por defec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2349360"/>
            <a:ext cx="5185080" cy="39592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a=2; $c="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c=suma($a);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"c= $c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 devuelv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tion suma($x,$y=1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y=$y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urn $x+$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352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fine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nt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funció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inicializa la primera vez que se llama a la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guarda el valor para posteriores u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ariables Está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2060640"/>
            <a:ext cx="3313080" cy="3672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contador()."&lt;br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contador()."&lt;br&gt;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tion contador(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tic $x=27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x=$x+1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urn $x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ariables Glob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396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fine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e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llama a la variable y se toma el valor que tiene en ese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modificar el valor en la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16280"/>
            <a:ext cx="3384360" cy="4392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x=1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mostr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x=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mostr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tion mostrar(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obal $x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$x."&lt;br&gt;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x+=1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rsonal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me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ge (Tools) o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rocessed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pertext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ges es uno de los lenguajes de programa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l lado del serv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ás extendidos en la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HP permite incrustar sus pequeños fragmentos de código dentro de la página HTML y realizar acciones de una forma automática, fácil y efica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PH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3600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añaden unos paréntesis al final de una vari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HP busca una función con el mismo nombre para ejecut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3168720" cy="3744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func="imprime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func("Hola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tion imprime($tex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cho $texto."&lt;br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urs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1628640"/>
            <a:ext cx="3745080" cy="46818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$num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rime($num)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tion imprime($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le($num&lt;=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cho $num."&lt;br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urn(imprime($num+1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7240" y="1598760"/>
            <a:ext cx="7772400" cy="146988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taxis y Funciones PHP Para  Páginas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ón include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lama al fichero e inserta el texto del fichero liter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3430440"/>
            <a:ext cx="2879640" cy="18716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("header.in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 "Hola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("footer.in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2638440"/>
            <a:ext cx="3673440" cy="18716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Funcion include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5013360"/>
            <a:ext cx="3600720" cy="8650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2781360"/>
            <a:ext cx="2737080" cy="504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ágina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3933720"/>
            <a:ext cx="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2638440"/>
            <a:ext cx="73080" cy="1871640"/>
          </a:xfrm>
          <a:custGeom>
            <a:avLst/>
            <a:gdLst>
              <a:gd name="textAreaLeft" fmla="*/ 46800 w 73080"/>
              <a:gd name="textAreaRight" fmla="*/ 73440 w 73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19640" y="3646440"/>
            <a:ext cx="504720" cy="287280"/>
          </a:xfrm>
          <a:prstGeom prst="line">
            <a:avLst/>
          </a:prstGeom>
          <a:ln w="64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5013360"/>
            <a:ext cx="71280" cy="8650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726080"/>
            <a:ext cx="718920" cy="647640"/>
          </a:xfrm>
          <a:prstGeom prst="line">
            <a:avLst/>
          </a:prstGeom>
          <a:ln w="64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ón require(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61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lama al fichero e inserta parte del código del fich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2924280"/>
            <a:ext cx="2664000" cy="2232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ire("config.in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de("header.in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"$cadena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de("footer.in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2997360"/>
            <a:ext cx="3168720" cy="15112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cadena="Hola Jua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cadena2="Hola Mundo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3429000"/>
            <a:ext cx="1295280" cy="287280"/>
          </a:xfrm>
          <a:prstGeom prst="line">
            <a:avLst/>
          </a:prstGeom>
          <a:ln w="64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2997360"/>
            <a:ext cx="71280" cy="151128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ón date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1989000"/>
            <a:ext cx="7488360" cy="3024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date("d-m-Y")."&lt;br&gt;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 18-12-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date("H:i:s")."&lt;br&gt;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 21:07: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date("Y/m/d H:i:s")."&lt;br&gt;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 2002/12/18 21:07: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date("d/m/y H:i:a")."&lt;br&gt;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 18/12/02 21:07: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date("d-m-Y H:i")."&lt;br&gt;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 18-12-2002 21: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ho date("time()")."&lt;br&gt;"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 310712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2708280"/>
            <a:ext cx="40435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= am o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= AM o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 = día del mes con 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 = abreviatura del día (I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 = nombre mes (i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 = hora (1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 = hora (0-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 =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ón date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2708280"/>
            <a:ext cx="42498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 = día del mes sin 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 = día de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 = número mes (1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 = abreviatura del mes (I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 = 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= año (2 dígi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= año (4 dígi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 = día año (1-3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me = nº segundos desde 1/1/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1773360"/>
            <a:ext cx="3313080" cy="504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s de for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HP y cl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8595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HP no es un lenguaje orientado a los objetos pero sí permite la definición de cla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 hace de la misma forma que en Java. Usa new, extends, this, etc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75708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ienza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form action=“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.php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 method=“post/get”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 = nombre del script que va a procesar la información recogida del formul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t = enviar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t = recoger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ormul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ormul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209080" cy="41036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lt;form method="post" action="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s_datos.ph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mbre: &lt;input type="text" name="nombre" size="30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input type="submit" value="Enviar datos" name="enviar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1557360"/>
            <a:ext cx="532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ulari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TML da formato a texto, imágenes, enlaces, etc. de forma prefijada y estática y NO inteligente. Tiene grandes limitaciones a la hora de diseñar páginas con prestaciones más avan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ML vs.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ormul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7489800" cy="30956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f($envi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"Hola &lt;b&gt;".$nombre." &lt;/b&gt; que tal estás &lt;br&gt;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1700280"/>
            <a:ext cx="532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_datos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ormul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162864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arga de archivos desde un formul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2349360"/>
            <a:ext cx="7632720" cy="4248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lt;form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ctype=“multipart/form-data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ethod="post" action=“&lt;? echo $PHP_SELF ?&gt;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put type="hidden" name="MAX_FILE_SIZE" value="100000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mbre del archivo:&lt;input type=‘file’ name=‘archivo" size="30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input type="submit" value=“Aceptar" name="enviar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ormul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1628640"/>
            <a:ext cx="741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arga de archivos desde un formul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HP detecta la descarga y coloca el archivo en C:\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HP crea varias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$archivo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$archivo_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$archivo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de acceso a fich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1989000"/>
            <a:ext cx="3456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pen = ab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close = cer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gets = 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puts = escr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of = final del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de acceso a fich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700280"/>
            <a:ext cx="590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to: fopen(“nombre_archivo”,”mod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2421000"/>
            <a:ext cx="8209080" cy="28796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sólo le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+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lectura y escri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sólo escritura. Si no existe lo crea. Si ya existe lo macha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+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lectura y escritura. Si no existe lo crea. Si ya existe l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cha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sólo lectura. Si no existe lo crea. Si ya existe empieza 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ribir al f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+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lectura y escritura. Si no existe lo crea. Si ya existe empiez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escribir al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5516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 fopen(“http://www.allmusic.com”,”r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de acceso a fich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0360" y="1557360"/>
            <a:ext cx="655164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to: fgets(“indicador_archivo”,”longitud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gets(“test.txt”,25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565360"/>
            <a:ext cx="655164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to: fputs(“indicador_archivo”,”cadena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puts(“test.txt”,”Simó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3573360"/>
            <a:ext cx="6551640" cy="12970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to: file_exists(“fich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f(file_exists(“test.txt”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“existe”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60360" y="4869000"/>
            <a:ext cx="6551640" cy="1296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to: copy(origen,destin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f(copy(“test.txt”,”C:\test.txt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“copiado”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7240" y="1598760"/>
            <a:ext cx="7772400" cy="146988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PHP de Acceso a MySq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brir una conexión al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ysql_connect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“hostname”,”username”,”password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nciones PHP de acceso a My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3141720"/>
            <a:ext cx="8229600" cy="10364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rear una base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ysql_create_d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“db_nam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4653000"/>
            <a:ext cx="8280360" cy="14414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Hacer una consulta de inse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ysql_db_quer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“db_name”,”insert into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ombre_tab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ombre,telefono) values(’$nombre’,’$telefono’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nciones PHP de acceso a My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77336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Hacer una consulta de s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a=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db_quer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“db_name”,”select * from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ombre_tabla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6560" y="3141720"/>
            <a:ext cx="8137800" cy="2808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roduce el resultado en un tabla asoci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hile($b=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ysql_fetch_arra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$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$b[“variable x”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cho $b[“variable y”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nciones PHP de acceso a My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77336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iberar la 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ree_resul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$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141720"/>
            <a:ext cx="8280360" cy="14414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Hacer una consulta de ac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ysql_db_quer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“db_name”,”updat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ombre_tab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lefono=’$telefono’ where nombre=‘$nombre’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941720"/>
            <a:ext cx="8280360" cy="14414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Hacer una consulta de eli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ysql_db_quer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“db_name”,”delete from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ombre_tab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here nombre=‘$nombre’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HP es mas versátil, inteligente y permite la automatización de tareas tediosas (Ej. actualizaciones).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áginas Dinámicas. Sirve para sitios grandes cuyos contenidos cambian con frecu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ML vs.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nciones PHP de acceso a My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177336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Nº de filas afectado en la última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affected row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997360"/>
            <a:ext cx="8136000" cy="1008000"/>
          </a:xfrm>
          <a:prstGeom prst="rect">
            <a:avLst/>
          </a:prstGeom>
          <a:noFill/>
          <a:ln cap="rnd" w="648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Nº de filas afectado en el último 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num_row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4221000"/>
            <a:ext cx="8136000" cy="1008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errar la conexión My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clos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nciones PHP de acceso a My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1628640"/>
            <a:ext cx="8136000" cy="1008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puntar a una fila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data_seek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d_resultado, nº_ro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285264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iminar un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drop_d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db_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407664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strar el nº de error asociado a la última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err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30064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strar el el texto asociado al error asociado a la última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err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nciones PHP de acceso a My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1628640"/>
            <a:ext cx="8136000" cy="1008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la info. de los campos del resultado de una consu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etch_fiel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resultad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285264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la longitud de cada campo del resultado de una consu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etch_length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resultad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407664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el resultado como un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etch_objec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esul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537372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una tabla con los valores de los campos de la 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etch_row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esul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nciones PHP de acceso a My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177336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el nombre del campo especificado por el ín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ield_nam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esultado,índic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2924280"/>
            <a:ext cx="8136000" cy="100800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ver al campo especificado por el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ield_seek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esultado,offse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4076640"/>
            <a:ext cx="8136000" cy="11527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el nombre de la tabla que almacena el campo especificado por el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ield_ta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esultado,offse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5373720"/>
            <a:ext cx="8136000" cy="10796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el tipo del campo especificado por el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ield_typ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esultado,offse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nciones PHP de acceso a My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700280"/>
            <a:ext cx="8136000" cy="158436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los especificadores del campo especificado por el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ield_flag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esultado,offse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t_null”, “primary_key”, “unsigned”, “zerofill”,”auto_increment” 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3645000"/>
            <a:ext cx="8136000" cy="10792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la longitud del campo especificado por el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field_l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esultado,offse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5084640"/>
            <a:ext cx="8136000" cy="10796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tener el identificador de la última operación 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insert_i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nciones PHP de acceso a My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1773360"/>
            <a:ext cx="8136000" cy="9349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información sobre la ta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list_field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2852640"/>
            <a:ext cx="8136000" cy="93528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las bases de dato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list_d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4005360"/>
            <a:ext cx="8136000" cy="9349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las tablas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list_tab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b_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5229360"/>
            <a:ext cx="8136000" cy="9349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volver el nº de campos de una consu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ysql_num_field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esul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7240" y="1598760"/>
            <a:ext cx="7772400" cy="146988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n de la Present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602136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© 2002  Simon Alderton / Miguel Gavilán / Eduardo Luque / Miguel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or qué  PH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uso de PHP scripts permite la adición de recursos interactivos como formularios, libros de invitados, contadores y recursos aun más avanzados como la gestión de contenido, dando así a la página una imagen mucho más profesional y atra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atuito. Potente. Rápido. Seg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ódig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an cantidad de fun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tibilidad. Independiente de la plataforma. Aunque inicialmente concebido para entornos UNIX donde se aprovechan mejor sus prest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ás complejo que 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r páginas diná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de correo electró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Gestión de bases de dat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ón de arch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tamiento de imá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viar y recibir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s Típicas de 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4:38:55Z</dcterms:created>
  <dc:creator>Simon Alderton</dc:creator>
  <dc:description/>
  <dc:language>en-US</dc:language>
  <cp:lastModifiedBy>Simon Alderton</cp:lastModifiedBy>
  <dcterms:modified xsi:type="dcterms:W3CDTF">2003-01-06T16:08:16Z</dcterms:modified>
  <cp:revision>60</cp:revision>
  <dc:subject/>
  <dc:title>Introducción a PHP</dc:title>
</cp:coreProperties>
</file>